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2.wmf" ContentType="image/x-wmf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7.wmf" ContentType="image/x-wmf"/>
  <Override PartName="/ppt/media/image16.png" ContentType="image/png"/>
  <Override PartName="/ppt/media/image26.wmf" ContentType="image/x-wmf"/>
  <Override PartName="/ppt/media/image23.wmf" ContentType="image/x-wmf"/>
  <Override PartName="/ppt/media/image22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1.wmf" ContentType="image/x-wmf"/>
  <Override PartName="/ppt/media/image19.wmf" ContentType="image/x-wmf"/>
  <Override PartName="/ppt/media/image17.png" ContentType="image/png"/>
  <Override PartName="/ppt/media/image14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ED9-07BB-4EE5-A400-4C774CD2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F56-D92B-4101-80A3-1A551A20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A5F-C6AC-470A-A855-A2153887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35F-1D09-4EE5-ADA6-1060BF92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DF3-3011-4929-91FA-AB450B87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DD2-3961-461A-9C68-4C05DCB8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FA3-C9A2-462E-8791-3FCFA2D1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4DE-8127-4909-84A6-566E395E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FF7-4D93-4468-93A2-13670C88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FDE-5704-47F1-B76F-7F6E929E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D9D5-29DB-403F-B806-A6322FE9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EB5-4642-42CE-9027-B2EFEF3B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F7CA-C09C-45F2-8943-05A4A2E0E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791320"/>
            <a:ext cx="1295280" cy="9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24.xml"/><Relationship Id="rId7" Type="http://schemas.openxmlformats.org/officeDocument/2006/relationships/slide" Target="slide25.xml"/><Relationship Id="rId8" Type="http://schemas.openxmlformats.org/officeDocument/2006/relationships/slide" Target="slide1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image" Target="../media/image3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image" Target="../media/image7.jpe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ometry &amp; Measurement Review Game S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58"/>
          <p:cNvSpPr/>
          <p:nvPr/>
        </p:nvSpPr>
        <p:spPr>
          <a:xfrm>
            <a:off x="7315200" y="16765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9"/>
          <p:cNvSpPr/>
          <p:nvPr/>
        </p:nvSpPr>
        <p:spPr>
          <a:xfrm>
            <a:off x="7315200" y="26668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63"/>
          <p:cNvSpPr/>
          <p:nvPr/>
        </p:nvSpPr>
        <p:spPr>
          <a:xfrm>
            <a:off x="5562720" y="16765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64"/>
          <p:cNvSpPr/>
          <p:nvPr/>
        </p:nvSpPr>
        <p:spPr>
          <a:xfrm>
            <a:off x="5562720" y="26668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60"/>
          <p:cNvSpPr/>
          <p:nvPr/>
        </p:nvSpPr>
        <p:spPr>
          <a:xfrm>
            <a:off x="7315200" y="3657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61"/>
          <p:cNvSpPr/>
          <p:nvPr/>
        </p:nvSpPr>
        <p:spPr>
          <a:xfrm>
            <a:off x="7315200" y="46483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62"/>
          <p:cNvSpPr/>
          <p:nvPr/>
        </p:nvSpPr>
        <p:spPr>
          <a:xfrm>
            <a:off x="7315200" y="56386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5"/>
          <p:cNvSpPr/>
          <p:nvPr/>
        </p:nvSpPr>
        <p:spPr>
          <a:xfrm>
            <a:off x="5562720" y="3657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66"/>
          <p:cNvSpPr/>
          <p:nvPr/>
        </p:nvSpPr>
        <p:spPr>
          <a:xfrm>
            <a:off x="5562720" y="46483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67"/>
          <p:cNvSpPr/>
          <p:nvPr/>
        </p:nvSpPr>
        <p:spPr>
          <a:xfrm>
            <a:off x="5562720" y="56386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3"/>
          <p:cNvSpPr/>
          <p:nvPr/>
        </p:nvSpPr>
        <p:spPr>
          <a:xfrm>
            <a:off x="3809880" y="1676520"/>
            <a:ext cx="1524240" cy="76176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10" h="21600">
                <a:moveTo>
                  <a:pt x="0" y="0"/>
                </a:moveTo>
                <a:lnTo>
                  <a:pt x="43210" y="0"/>
                </a:lnTo>
                <a:lnTo>
                  <a:pt x="43210" y="21600"/>
                </a:lnTo>
                <a:lnTo>
                  <a:pt x="0" y="21600"/>
                </a:lnTo>
                <a:close/>
              </a:path>
              <a:path fill="lightenLess" w="43210" h="21600">
                <a:moveTo>
                  <a:pt x="0" y="0"/>
                </a:moveTo>
                <a:lnTo>
                  <a:pt x="43210" y="0"/>
                </a:lnTo>
                <a:lnTo>
                  <a:pt x="41810" y="1400"/>
                </a:lnTo>
                <a:lnTo>
                  <a:pt x="1400" y="1400"/>
                </a:lnTo>
                <a:close/>
              </a:path>
              <a:path fill="darken" w="43210" h="21600">
                <a:moveTo>
                  <a:pt x="43210" y="0"/>
                </a:moveTo>
                <a:lnTo>
                  <a:pt x="43210" y="21600"/>
                </a:lnTo>
                <a:lnTo>
                  <a:pt x="41810" y="20200"/>
                </a:lnTo>
                <a:lnTo>
                  <a:pt x="41810" y="1400"/>
                </a:lnTo>
                <a:close/>
              </a:path>
              <a:path fill="darkenLess" w="43210" h="21600">
                <a:moveTo>
                  <a:pt x="43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0" y="20200"/>
                </a:lnTo>
                <a:close/>
              </a:path>
              <a:path fill="lighten" w="43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54"/>
          <p:cNvSpPr/>
          <p:nvPr/>
        </p:nvSpPr>
        <p:spPr>
          <a:xfrm>
            <a:off x="3809880" y="266688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5"/>
          <p:cNvSpPr/>
          <p:nvPr/>
        </p:nvSpPr>
        <p:spPr>
          <a:xfrm>
            <a:off x="3809880" y="3657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56"/>
          <p:cNvSpPr/>
          <p:nvPr/>
        </p:nvSpPr>
        <p:spPr>
          <a:xfrm>
            <a:off x="3809880" y="4648320"/>
            <a:ext cx="1524240" cy="76176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10" h="21600">
                <a:moveTo>
                  <a:pt x="0" y="0"/>
                </a:moveTo>
                <a:lnTo>
                  <a:pt x="43210" y="0"/>
                </a:lnTo>
                <a:lnTo>
                  <a:pt x="43210" y="21600"/>
                </a:lnTo>
                <a:lnTo>
                  <a:pt x="0" y="21600"/>
                </a:lnTo>
                <a:close/>
              </a:path>
              <a:path fill="lightenLess" w="43210" h="21600">
                <a:moveTo>
                  <a:pt x="0" y="0"/>
                </a:moveTo>
                <a:lnTo>
                  <a:pt x="43210" y="0"/>
                </a:lnTo>
                <a:lnTo>
                  <a:pt x="41810" y="1400"/>
                </a:lnTo>
                <a:lnTo>
                  <a:pt x="1400" y="1400"/>
                </a:lnTo>
                <a:close/>
              </a:path>
              <a:path fill="darken" w="43210" h="21600">
                <a:moveTo>
                  <a:pt x="43210" y="0"/>
                </a:moveTo>
                <a:lnTo>
                  <a:pt x="43210" y="21600"/>
                </a:lnTo>
                <a:lnTo>
                  <a:pt x="41810" y="20200"/>
                </a:lnTo>
                <a:lnTo>
                  <a:pt x="41810" y="1400"/>
                </a:lnTo>
                <a:close/>
              </a:path>
              <a:path fill="darkenLess" w="43210" h="21600">
                <a:moveTo>
                  <a:pt x="43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0" y="20200"/>
                </a:lnTo>
                <a:close/>
              </a:path>
              <a:path fill="lighten" w="43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57"/>
          <p:cNvSpPr/>
          <p:nvPr/>
        </p:nvSpPr>
        <p:spPr>
          <a:xfrm>
            <a:off x="3809880" y="563868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304920" y="16765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304920" y="26668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304920" y="3657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04920" y="46483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304920" y="56386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2057400" y="16765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2057400" y="26668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2057400" y="3657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2057400" y="46483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2057400" y="56386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8600" y="762120"/>
          <a:ext cx="8686800" cy="822240"/>
        </p:xfrm>
        <a:graphic>
          <a:graphicData uri="http://schemas.openxmlformats.org/drawingml/2006/table">
            <a:tbl>
              <a:tblPr/>
              <a:tblGrid>
                <a:gridCol w="1722600"/>
                <a:gridCol w="1722240"/>
                <a:gridCol w="1812960"/>
                <a:gridCol w="1752480"/>
                <a:gridCol w="16765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meter and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rea and Volu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of Complex Sha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agorean Theorem and Triang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cellane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face Area &amp; Volume 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1640" y="21333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volume of the cylind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=(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628 f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4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365760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face Area &amp; Volume 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0024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volume of the rectangular Pr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72 in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3810240" cy="36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a of Complex Shapes for 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rea of the complex sha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reak it down into simpler shapes fir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88 f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3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762360" cy="3176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4"/>
          <p:cNvSpPr/>
          <p:nvPr/>
        </p:nvSpPr>
        <p:spPr>
          <a:xfrm>
            <a:off x="3657600" y="2209680"/>
            <a:ext cx="6094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a of Complex Shapes for 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19360" y="22860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area of the complex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reak it down into simpler shapes fir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72 ft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3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3886200" cy="31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a of Complex Shapes for 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00240" y="21333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rea of the complex sha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reak it down into simpler shapes fir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3 yd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3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403884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a of Complex Shapes for 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3 yd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3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535200" cy="39621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area of the complex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reak it down into simpler shapes fir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a of Complex Shapes for 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1640" y="22860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rea of the complex sha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reak it down into simpler shapes fir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1 c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3" descr=""/>
          <p:cNvPicPr/>
          <p:nvPr/>
        </p:nvPicPr>
        <p:blipFill>
          <a:blip r:embed="rId2"/>
          <a:stretch/>
        </p:blipFill>
        <p:spPr>
          <a:xfrm>
            <a:off x="228600" y="2128680"/>
            <a:ext cx="4343400" cy="422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thagorean Theorem &amp; Triangles for 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19360" y="18288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ich angle is congruent to    CAB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F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4" descr="MPj03901240000[1]"/>
          <p:cNvPicPr/>
          <p:nvPr/>
        </p:nvPicPr>
        <p:blipFill>
          <a:blip r:embed="rId2"/>
          <a:stretch/>
        </p:blipFill>
        <p:spPr>
          <a:xfrm>
            <a:off x="1066680" y="4800600"/>
            <a:ext cx="2590920" cy="184932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7"/>
          <p:cNvGrpSpPr/>
          <p:nvPr/>
        </p:nvGrpSpPr>
        <p:grpSpPr>
          <a:xfrm>
            <a:off x="5410080" y="3429000"/>
            <a:ext cx="457200" cy="457200"/>
            <a:chOff x="5410080" y="3429000"/>
            <a:chExt cx="457200" cy="457200"/>
          </a:xfrm>
        </p:grpSpPr>
        <p:sp>
          <p:nvSpPr>
            <p:cNvPr id="157" name="Line 15"/>
            <p:cNvSpPr/>
            <p:nvPr/>
          </p:nvSpPr>
          <p:spPr>
            <a:xfrm>
              <a:off x="5410080" y="38862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 flipV="1">
              <a:off x="5410080" y="3429000"/>
              <a:ext cx="30456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AutoShape 18"/>
          <p:cNvSpPr/>
          <p:nvPr/>
        </p:nvSpPr>
        <p:spPr>
          <a:xfrm>
            <a:off x="533520" y="1981080"/>
            <a:ext cx="1600200" cy="205740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9"/>
          <p:cNvSpPr/>
          <p:nvPr/>
        </p:nvSpPr>
        <p:spPr>
          <a:xfrm>
            <a:off x="2743200" y="2133720"/>
            <a:ext cx="1143000" cy="152388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228600" y="1752480"/>
            <a:ext cx="2514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2362320" y="1828800"/>
            <a:ext cx="2057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thagorean Theorem &amp; Triangles for 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1640" y="18288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y the triangle as scalene, isosceles, and equilateral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isosce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5" descr="MPj03901240000[1]"/>
          <p:cNvPicPr/>
          <p:nvPr/>
        </p:nvPicPr>
        <p:blipFill>
          <a:blip r:embed="rId2"/>
          <a:stretch/>
        </p:blipFill>
        <p:spPr>
          <a:xfrm>
            <a:off x="533520" y="4962600"/>
            <a:ext cx="2361960" cy="168588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16"/>
          <p:cNvSpPr/>
          <p:nvPr/>
        </p:nvSpPr>
        <p:spPr>
          <a:xfrm>
            <a:off x="1219320" y="2133720"/>
            <a:ext cx="1981080" cy="22096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1600200" y="30481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2514600" y="29714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thagorean Theorem &amp; Triangles for 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952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he Pythagorean Theorem to find the missing s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13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5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22730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190760" y="2133720"/>
            <a:ext cx="46479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perimeter and area of the rect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meter &amp; Area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4267080" y="548640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= 32 cm, A = 48 cm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0" descr="MCED00278_0000[1]"/>
          <p:cNvPicPr/>
          <p:nvPr/>
        </p:nvPicPr>
        <p:blipFill>
          <a:blip r:embed="rId2"/>
          <a:stretch/>
        </p:blipFill>
        <p:spPr>
          <a:xfrm>
            <a:off x="685800" y="2133720"/>
            <a:ext cx="2798640" cy="44956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1"/>
          <p:cNvSpPr/>
          <p:nvPr/>
        </p:nvSpPr>
        <p:spPr>
          <a:xfrm>
            <a:off x="4648320" y="3429000"/>
            <a:ext cx="3581280" cy="1447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thagorean Theorem &amp; Triangles for 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1640" y="21333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he Pythagorean Theorem to find the missing s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17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5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114800" cy="25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thagorean Theorem &amp; Triangles for 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Object 14"/>
          <p:cNvGraphicFramePr/>
          <p:nvPr/>
        </p:nvGraphicFramePr>
        <p:xfrm>
          <a:off x="5438880" y="1981080"/>
          <a:ext cx="1238040" cy="192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8880" y="1981080"/>
                    <a:ext cx="123804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480060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4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21" descr=""/>
          <p:cNvPicPr/>
          <p:nvPr/>
        </p:nvPicPr>
        <p:blipFill>
          <a:blip r:embed="rId4"/>
          <a:stretch/>
        </p:blipFill>
        <p:spPr>
          <a:xfrm>
            <a:off x="457200" y="2057400"/>
            <a:ext cx="3962520" cy="36212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2"/>
          <p:cNvSpPr/>
          <p:nvPr/>
        </p:nvSpPr>
        <p:spPr>
          <a:xfrm>
            <a:off x="4419720" y="2133720"/>
            <a:ext cx="456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Pythagorean Theorem to find the missing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1936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=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r is traveling at 70 mi/h for 3 hours. How many miles did the car travel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210 mi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4" descr="MCj02339660000[1]"/>
          <p:cNvPicPr/>
          <p:nvPr/>
        </p:nvPicPr>
        <p:blipFill>
          <a:blip r:embed="rId2"/>
          <a:stretch/>
        </p:blipFill>
        <p:spPr>
          <a:xfrm>
            <a:off x="228600" y="2514600"/>
            <a:ext cx="4114800" cy="33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952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cale model of a car is 10 inches long. The scale factor is 1:18. How many feet long is the actual c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180 fe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4" descr="MPj04331920000[1]"/>
          <p:cNvPicPr/>
          <p:nvPr/>
        </p:nvPicPr>
        <p:blipFill>
          <a:blip r:embed="rId2"/>
          <a:stretch/>
        </p:blipFill>
        <p:spPr>
          <a:xfrm>
            <a:off x="304920" y="3124080"/>
            <a:ext cx="3352680" cy="26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952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millimeters (mm) are in 20 centimeters (cm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200 m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5" descr="MPj03995460000[1]"/>
          <p:cNvPicPr/>
          <p:nvPr/>
        </p:nvPicPr>
        <p:blipFill>
          <a:blip r:embed="rId2"/>
          <a:stretch/>
        </p:blipFill>
        <p:spPr>
          <a:xfrm>
            <a:off x="838080" y="2362320"/>
            <a:ext cx="2505240" cy="31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4114800" y="5715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. 24 f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7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7086600" cy="38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9520" y="1904760"/>
            <a:ext cx="5334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2 pairs of lines that interse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4876920" y="502920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NR and OU, MS and 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4" descr=""/>
          <p:cNvPicPr/>
          <p:nvPr/>
        </p:nvPicPr>
        <p:blipFill>
          <a:blip r:embed="rId2"/>
          <a:stretch/>
        </p:blipFill>
        <p:spPr>
          <a:xfrm>
            <a:off x="228600" y="3084480"/>
            <a:ext cx="4343400" cy="35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343040" y="2133720"/>
            <a:ext cx="4343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perimeter and area of the tri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meter &amp; Area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505320" y="548640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= 23 in., A = 20 in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8" descr="MCED00278_0000[1]"/>
          <p:cNvPicPr/>
          <p:nvPr/>
        </p:nvPicPr>
        <p:blipFill>
          <a:blip r:embed="rId2"/>
          <a:stretch/>
        </p:blipFill>
        <p:spPr>
          <a:xfrm>
            <a:off x="685800" y="2133720"/>
            <a:ext cx="2798640" cy="44956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9"/>
          <p:cNvSpPr/>
          <p:nvPr/>
        </p:nvSpPr>
        <p:spPr>
          <a:xfrm>
            <a:off x="5181480" y="3276720"/>
            <a:ext cx="1524240" cy="205740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in.           10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429000" y="198108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rea and perimeter for the trapezoi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meter &amp; Area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581280" y="5410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= 28mm, A= 36 m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2" descr="MCED00278_0000[1]"/>
          <p:cNvPicPr/>
          <p:nvPr/>
        </p:nvPicPr>
        <p:blipFill>
          <a:blip r:embed="rId2"/>
          <a:stretch/>
        </p:blipFill>
        <p:spPr>
          <a:xfrm>
            <a:off x="685800" y="2133720"/>
            <a:ext cx="2798640" cy="44956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3"/>
          <p:cNvSpPr/>
          <p:nvPr/>
        </p:nvSpPr>
        <p:spPr>
          <a:xfrm rot="10800000">
            <a:off x="4114440" y="3276720"/>
            <a:ext cx="3809880" cy="12189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mm         4 mm                     5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518148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meter &amp; Area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57600" y="190512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perimeter and area of the parallelogr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733920" y="54100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 = 29 cm, A = 27 cm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4" descr="MCED00278_0000[1]"/>
          <p:cNvPicPr/>
          <p:nvPr/>
        </p:nvPicPr>
        <p:blipFill>
          <a:blip r:embed="rId2"/>
          <a:stretch/>
        </p:blipFill>
        <p:spPr>
          <a:xfrm>
            <a:off x="685800" y="2133720"/>
            <a:ext cx="2798640" cy="44956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6"/>
          <p:cNvSpPr/>
          <p:nvPr/>
        </p:nvSpPr>
        <p:spPr>
          <a:xfrm>
            <a:off x="4495680" y="3352680"/>
            <a:ext cx="3581640" cy="1295640"/>
          </a:xfrm>
          <a:prstGeom prst="parallelogram">
            <a:avLst>
              <a:gd name="adj" fmla="val 6910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5 cm        3 cm                      5.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5410080" y="3352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meter &amp; Area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19360" y="2057400"/>
            <a:ext cx="47242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ree farm needs fertilizing. Each box of fertilizer covers 36 square feet. About how many boxes of fertilizer are need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3962520" y="54100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bout 14 (13.5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5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3581640" cy="296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face Area &amp; Volume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43040" y="21333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Surface Area of the cub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54 in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6"/>
          <p:cNvSpPr/>
          <p:nvPr/>
        </p:nvSpPr>
        <p:spPr>
          <a:xfrm>
            <a:off x="609480" y="2666880"/>
            <a:ext cx="3048120" cy="281952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face Area &amp; Volume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1640" y="23619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the volum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364 ft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228600" y="2819520"/>
            <a:ext cx="3657600" cy="22096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 f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face Area &amp; Volume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952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Surface Area of the Triangular Pris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56 m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311796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0:34:09Z</dcterms:created>
  <dc:creator>JWEETTA110</dc:creator>
  <dc:description>© 1999-2004 SchoolKiT International
This template is a component of EDclass. You may only use this template if you have a current subscription to EDclass. For more information
visit: www.schoolkit.com
email: service@schoolkit.com</dc:description>
  <dc:language>en-US</dc:language>
  <cp:lastModifiedBy>kim.nelson Nelson</cp:lastModifiedBy>
  <dcterms:modified xsi:type="dcterms:W3CDTF">2012-01-12T01:27:18Z</dcterms:modified>
  <cp:revision>27</cp:revision>
  <dc:subject>SchoolKiT International</dc:subject>
  <dc:title>Chapter 2 Review Game Show</dc:title>
</cp:coreProperties>
</file>